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535E-2AC1-4012-BD4F-9017C6CE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D7F8-CDBE-43DC-9704-2797A167E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83FF2-4D1F-443D-BB8C-FFC454C56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CB92F-E11D-4010-B300-90B1D6775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42257-6AC1-48FE-8A65-F225A079A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231A1D-2C68-4A70-A849-9D8E0F5CE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516B3-6F8C-4CA3-BA4E-637B591A2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8552D-A508-4787-9416-687A8E337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14C13-FE01-4750-B3F4-11A2AFEED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F070F-68A5-414E-BC75-F000DD757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AEFE9-6C7A-4F2E-A6D3-BE2C72699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A7158-D199-49E7-AC22-0272D403F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079B9-0D00-43EC-AE9D-81AF81A01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0BCB1-D524-49DF-8FFF-65F0A35D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42207-9941-4325-B52D-ADDC212CE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5C218-CA7A-4D09-9463-398867161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5FF71-E2DC-45FF-8A5E-35419244B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7AC81-3C7F-4B32-8BE6-4B9DBED9F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6EB64-0CA2-4708-898D-6A0CDACC5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2352F-9C37-4DBF-8D2C-1F362CE3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7F8A4-0C9E-4730-9BFF-74E930E0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F019-77FC-4904-AA4D-2A66DA94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0AF94-AADF-4A0A-BE0E-1AE115824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2429-71BB-4C7E-83B4-C57884D06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C1F4-1B23-48C2-82A5-43FE68046A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4B9D-00D8-4D84-959B-7ECE4D138F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b7e7ff"/>
                </a:solidFill>
                <a:latin typeface="Arial"/>
              </a:rPr>
              <a:t>CULTURA ROMANĂ</a:t>
            </a:r>
            <a:endParaRPr b="0" lang="en-US" sz="1400" spc="-1" strike="noStrike">
              <a:solidFill>
                <a:srgbClr val="b7e7ff"/>
              </a:solidFill>
              <a:latin typeface="Arial"/>
            </a:endParaRPr>
          </a:p>
        </p:txBody>
      </p:sp>
      <p:sp>
        <p:nvSpPr>
          <p:cNvPr id="8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3" name="PlaceHolder 2"/>
          <p:cNvSpPr>
            <a:spLocks noGrp="1"/>
          </p:cNvSpPr>
          <p:nvPr>
            <p:ph type="subTitle"/>
          </p:nvPr>
        </p:nvSpPr>
        <p:spPr>
          <a:xfrm>
            <a:off x="1251000" y="3909960"/>
            <a:ext cx="7432560" cy="17128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83">
                                            <p:txEl>
                                              <p:pRg st="0" end="0"/>
                                            </p:txEl>
                                          </p:spTgt>
                                        </p:tgtEl>
                                        <p:attrNameLst>
                                          <p:attrName>style.visibility</p:attrName>
                                        </p:attrNameLst>
                                      </p:cBhvr>
                                      <p:to>
                                        <p:strVal val="visible"/>
                                      </p:to>
                                    </p:set>
                                    <p:animEffect filter="fade" transition="in">
                                      <p:cBhvr additive="repl">
                                        <p:cTn id="11"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301680" y="1676520"/>
            <a:ext cx="4191120" cy="35733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86" name="Picture 5" descr=""/>
          <p:cNvPicPr/>
          <p:nvPr/>
        </p:nvPicPr>
        <p:blipFill>
          <a:blip r:embed="rId2"/>
          <a:stretch/>
        </p:blipFill>
        <p:spPr>
          <a:xfrm>
            <a:off x="4724280" y="1371600"/>
            <a:ext cx="144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2a3</cp:lastModifiedBy>
  <dcterms:modified xsi:type="dcterms:W3CDTF">2012-06-19T10:54:4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